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ADB-697C-4705-BD39-906AF58A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787-E405-42D9-816D-534B6615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5F-49E0-40F6-8CD1-A5F19CD2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1D2-43D7-4C20-AC09-44004FBD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6E5-4985-44BE-94D9-B8A6F2AB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5FC-8E45-4AFD-BF11-FF2BC8DE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769-F976-449C-9A33-E8C1151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657-02B4-44A0-8A8E-5BF7028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EB1-EE1A-49EF-B8DE-366ACDB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55A-BD18-44FC-A820-4B5FCC2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6DD-28F3-496E-99F7-DDA37ACE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23D-C049-4302-BFEA-05E4C62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403-DAB0-4D10-9867-C23E8D9D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 Reading Key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1-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lellan vs.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et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t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Ironcl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ncipation / Life of the Soldi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46-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ion or Procla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of the Sold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of African-American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experiences of all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Demo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de Turns/End of the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555-5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Gettysbur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ecumseh Sh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Impacts of Tota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rrender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24:12Z</dcterms:created>
  <dc:creator>School District U46</dc:creator>
  <dc:description/>
  <dc:language>en-US</dc:language>
  <cp:lastModifiedBy>School District U46</cp:lastModifiedBy>
  <dcterms:modified xsi:type="dcterms:W3CDTF">2009-12-04T15:26:37Z</dcterms:modified>
  <cp:revision>1</cp:revision>
  <dc:subject/>
  <dc:title>Unit 6 Reading Keys Part 2</dc:title>
</cp:coreProperties>
</file>